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558-8A16-44C8-A65A-6E376E05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D9A-009E-4581-BEC9-643DF02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7AF-4F54-495F-BC8E-3A76F3D3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69C-20A2-4AB8-8D0E-DE569295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CC9-31B0-41F8-8EED-A4754ECD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C36-EF40-433B-A305-8C2BE7A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EBE-12A6-4EDC-83AE-D39AB6D9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6C3-DAB7-4AA0-A0D8-862BB1A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7CA-AD11-47F8-8E29-6934186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050-59C0-4DDA-B446-F07FAF0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792-E8A7-463B-A083-99F076D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13E-9B10-4223-9419-0877B35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8CD4-AABD-4FA5-B320-5149DE06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Business C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ohn Mikiewi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13840" cy="32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3429000"/>
            <a:ext cx="381240" cy="1371600"/>
          </a:xfrm>
          <a:prstGeom prst="up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952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lick on Publications f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619880" cy="459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362320"/>
            <a:ext cx="3276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Pla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ccent Box 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211600">
            <a:off x="3504960" y="2895480"/>
            <a:ext cx="1447560" cy="381240"/>
          </a:xfrm>
          <a:prstGeom prst="rightArrow">
            <a:avLst>
              <a:gd name="adj1" fmla="val 50000"/>
              <a:gd name="adj2" fmla="val 94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286600">
            <a:off x="3123720" y="4571640"/>
            <a:ext cx="3657600" cy="380880"/>
          </a:xfrm>
          <a:prstGeom prst="rightArrow">
            <a:avLst>
              <a:gd name="adj1" fmla="val 50000"/>
              <a:gd name="adj2" fmla="val 240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448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2286000"/>
            <a:ext cx="4647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no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Landscap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one (1) copy per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342600">
            <a:off x="3428640" y="3429000"/>
            <a:ext cx="3581280" cy="380880"/>
          </a:xfrm>
          <a:prstGeom prst="rightArrow">
            <a:avLst>
              <a:gd name="adj1" fmla="val 50000"/>
              <a:gd name="adj2" fmla="val 2350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59000">
            <a:off x="5486040" y="449532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56400">
            <a:off x="5410080" y="5486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he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your school’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5138640" cy="308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400000">
            <a:off x="5600520" y="247644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2920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1905120"/>
            <a:ext cx="33530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NEIU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60800">
            <a:off x="3962520" y="2971800"/>
            <a:ext cx="1447560" cy="304920"/>
          </a:xfrm>
          <a:prstGeom prst="leftArrow">
            <a:avLst>
              <a:gd name="adj1" fmla="val 50000"/>
              <a:gd name="adj2" fmla="val 118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497600">
            <a:off x="3657600" y="4033800"/>
            <a:ext cx="1752480" cy="308160"/>
          </a:xfrm>
          <a:prstGeom prst="leftArrow">
            <a:avLst>
              <a:gd name="adj1" fmla="val 50000"/>
              <a:gd name="adj2" fmla="val 142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5257800" cy="373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2362320"/>
            <a:ext cx="2514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address lines 2, 3,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your school’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981080" y="3200400"/>
            <a:ext cx="914400" cy="228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443560" cy="3819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962520"/>
            <a:ext cx="2438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your phone number, fax number, an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182600">
            <a:off x="3085920" y="4578120"/>
            <a:ext cx="1600200" cy="99036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570240 h 990360"/>
              <a:gd name="textAreaBottom" fmla="*/ 8485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48:01Z</dcterms:created>
  <dc:creator>neiu</dc:creator>
  <dc:description/>
  <dc:language>en-US</dc:language>
  <cp:lastModifiedBy>neiu</cp:lastModifiedBy>
  <dcterms:modified xsi:type="dcterms:W3CDTF">2008-11-19T22:35:08Z</dcterms:modified>
  <cp:revision>5</cp:revision>
  <dc:subject/>
  <dc:title>Business Cards</dc:title>
</cp:coreProperties>
</file>